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431C-204D-45C0-81B7-6B2CE144A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CCEE-BEB1-4E91-AC52-786C394D7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BBC-483B-476C-BF7F-F0D279AF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819-1B0F-4F00-ADA5-5C7DD1A7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52A-47D9-4467-B872-BC03828C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F9B-969B-447C-A996-3D859FFD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6A2-D2C7-482B-8E5C-48FA9125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775-EC45-4BC3-9F52-9FB8D139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78B-6070-4ED2-AFEB-2D24D230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2C2-F0C8-4FAB-971E-C4A4D3A6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06E-EA41-4241-B38D-A5FE6CDB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E02-B5B2-457B-AA1F-10E23E27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484-9840-402E-9BCE-4C4575D8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E14-C0C6-49D8-B78A-36A9D0FE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A423-D466-4CCD-8A3F-199B7A0C2B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fes-framework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aming the Tower of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ftware Assurance Findings Expression Schema (SAFES) Fra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an Barn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 June, 20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tential 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280" y="1768320"/>
          <a:ext cx="8763120" cy="5089680"/>
        </p:xfrm>
        <a:graphic>
          <a:graphicData uri="http://schemas.openxmlformats.org/drawingml/2006/table">
            <a:tbl>
              <a:tblPr/>
              <a:tblGrid>
                <a:gridCol w="1298520"/>
                <a:gridCol w="7464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vehicle of publication (IP contro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transforms to and from native sch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SAFES to a more stable and permanent 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comprehensive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authoring/editing t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report generation t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 a real project using SAF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 schema to add more tools within the initial 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actor schema for efficiency and redundanc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alignment between SAFES and KDM, ARM, SAEM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lize schema infrastructure (e.g. XMI compliant) for improved automation interchange and enabling framework lay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 schema to add new tools outside the initial 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day’s Chall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2057400"/>
            <a:ext cx="8686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standard reporting format for SwA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combine results of multi-perspective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combine results of multi-tool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inefficient for tool vendors looking to integrate results with other tools (very costly and redunda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trend across assessments from different tools or analy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automate meta-analysis and the assessment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Framework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 Assurance Findings Expression Schema (SAF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1 (v0.1) sponsored by the NSA Center for Assured Software (C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and encourage consistency in software assurance tool and service 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ablish more structured and effectively useful software assurance tool and servic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integration of results from multiple software assurance tools 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automated processing of software assurance tool and servic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from state of the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 with state of the 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a comprehensive schema covering all aspects of software assurance analysis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ive for usability, flexibility and ext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ure towards form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Initial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scope perspectives for initial effort (v0.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source cod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binary cod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application penetration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ecurit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z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hitectural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vendors actively collaborating others were passively incorpo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3123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fin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tego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nalysis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 or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tection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4876920" y="3048120"/>
            <a:ext cx="3809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meta-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ucture, content &amp;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siness/mission and security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ssuranc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threa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457200" y="20574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FES is a comprehensive and detailed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ampling of Potential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057400"/>
            <a:ext cx="3886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derstand the Business Context of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 technical risks to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 the application attack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relevant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ventory and characterize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threat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FISMA security categorization (FIPS-1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MA Security Planning (SP800-1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MA Risk Assessment (SP800-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duct multi-tool/multi-perspecti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false posi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racteriz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oritiz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4876920" y="2133720"/>
            <a:ext cx="38862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relate fin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itch dynamic &amp; static location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grate automated and manual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use common mitigation ad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assessmen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different versions of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an assurance case for an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an assurance case compliance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ort CWE content into local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common finding trends across portfolio by technology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intain analysis accou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trends in tool and rule effic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ping between various tool level defin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Maturation Paths Beyond v0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FES Maturation Path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ability: primarily focused on efforts surrounding the schema to make it more usable by the community such as native transforms, tool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inement: primarily focused on improving the quality and coverage of the schema itself with activities such as adding new perspectives, adding new schemas, fixing erro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lization: primarily focused on gradually (as quickly as is prudent and accepted by the targeted user community) incorporating in formal standards-based approaches (vocabulary, structure, etc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0.1 completed and now available on the SAFES websit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afes-framework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working with sponsor to finalize decision of next steps to pur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ing up new supporters/spon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ith various stakeholders in the community to support their use of SAFES and elicit their collab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7:04:33Z</dcterms:created>
  <dc:creator>Sean Barnum</dc:creator>
  <dc:description/>
  <dc:language>en-US</dc:language>
  <cp:lastModifiedBy>Administrator</cp:lastModifiedBy>
  <dcterms:modified xsi:type="dcterms:W3CDTF">2010-06-14T17:31:32Z</dcterms:modified>
  <cp:revision>2</cp:revision>
  <dc:subject/>
  <dc:title>Taming the Tower of Babel: Software Assurance Findings Expression Schema (SAFES) Framework </dc:title>
</cp:coreProperties>
</file>